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C45-5605-4AE5-8C4B-CB2958F6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76F-8359-43C0-B851-61BA61EF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BD7-4F94-434A-84FB-B7DC25A1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61C4-8C41-47B2-B207-4F19B100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6DF5-2D7D-4415-A02E-4B7D03B4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A6D-3FCE-4865-9361-CB3995C86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IP-2 Kickoff Workshop</a:t>
            </a:r>
            <a:br>
              <a:rPr sz="3200"/>
            </a:br>
            <a:br>
              <a:rPr sz="3200"/>
            </a:br>
            <a:r>
              <a:rPr b="1" lang="en-GB" sz="4000" spc="-1" strike="noStrike">
                <a:solidFill>
                  <a:srgbClr val="005faa"/>
                </a:solidFill>
                <a:latin typeface="Arial"/>
              </a:rPr>
              <a:t>Air Quality and Health Scenario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860280"/>
            <a:ext cx="64008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Frank Lindsay, David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SS AIP-2 Kick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-26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650960"/>
            <a:ext cx="8800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 of Intercontinent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Quality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o the Health Community &amp;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Actors: Data Providers, Analysts, IT, AQ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114880" y="4091040"/>
            <a:ext cx="4029120" cy="2766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72960" y="51069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cal Processing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imary Participant Responses to AQ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6222600"/>
            <a:ext cx="883944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IESIN, Compusult, ESA, ESRI, GOES-R and GMU, INCOSE, NASA World Wind, NOAA NCDC GOSIC, NOAA SNA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60240" y="1739880"/>
          <a:ext cx="8115480" cy="4170240"/>
        </p:xfrm>
        <a:graphic>
          <a:graphicData uri="http://schemas.openxmlformats.org/drawingml/2006/table">
            <a:tbl>
              <a:tblPr/>
              <a:tblGrid>
                <a:gridCol w="1308240"/>
                <a:gridCol w="1219320"/>
                <a:gridCol w="1079280"/>
                <a:gridCol w="1155960"/>
                <a:gridCol w="1180800"/>
                <a:gridCol w="965520"/>
                <a:gridCol w="1206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4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is Anticipated?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205704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AIP Participants represent diverse group with multiple legitimate persp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s: IT System Users, Data Providers, Funding Agencies, Developers,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Scenario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scenario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4:15:28Z</dcterms:created>
  <dc:creator/>
  <dc:description/>
  <dc:language>en-US</dc:language>
  <cp:lastModifiedBy>Administrator</cp:lastModifiedBy>
  <dcterms:modified xsi:type="dcterms:W3CDTF">2008-10-03T17:20:17Z</dcterms:modified>
  <cp:revision>529</cp:revision>
  <dc:subject/>
  <dc:title>Update on OGC involvement in GEOSS</dc:title>
</cp:coreProperties>
</file>